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ene ontology analysis of the serine‐, threonine‐, or tyrosine‐phosphorylated proteins.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Cellular localization,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molecular function, and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biological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enn diagram showing the number of conserved tyrosine phosphorylation sites in homologs. Blue, yellow, and red circles indicate the conserved si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rabidop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aralogs, rice orthologs, and poplar ortholog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‐scale phosphorylation mapping reveals the extent of tyrosine phosphorylation in Arabido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Naoyuki Sugiyama, Hirofumi Nakagami, Keiichi Mochida, Arsalan Daudi, Masaru Tomita, Ken Shirasu, and Yasushi Ishih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l Syst B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4(1):1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6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as stated in the article, figure or figure 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05920" y="6721560"/>
            <a:ext cx="154440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 ontology analysis of the serine‐, threonine‐, or tyrosine‐phosphorylated protei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6721560"/>
            <a:ext cx="1544400" cy="70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05160" y="1079640"/>
            <a:ext cx="34750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051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yuki Sugiyama et al. Mol Syst Biol 2008;4: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as stated in the article, figure or figure 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nn diagram showing the number of conserved tyrosine phosphorylation sites in homolo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05920" y="6721560"/>
            <a:ext cx="1544400" cy="704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7600" y="1079640"/>
            <a:ext cx="79916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76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yuki Sugiyama et al. Mol Syst Biol 2008;4: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as stated in the article, figure or figure 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