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omparative representation of the ChIP‐Seq and Bar‐ChIP workflows Yeast cultures are crosslinked using formaldehyde. Chromatin is then extracted and fragmented using micrococcal nuclease (MNase) digestion. In a classical ChIP‐Seq protocol, MNase‐treated chromatin is directly immuno‐precipitated with an antibody against the protein modification or factor of interest. Recovered DNA is then barcoded and used to generate an amplified DNA library ready for paired‐end sequencing. In the Bar‐ChIP protocol, fragmented chromatin is barcoded through ligation of molecular barcodes prior to immuno‐precipitation. DNA recovered from the IP can directly be amplified by PCR using Illumina primers and deep‐sequenced. The presence of the barcoding step early in the workflow allows for multiplexing of IP assay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1"/>
          <p:cNvSpPr>
            <a:spLocks noGrp="1"/>
          </p:cNvSpPr>
          <p:nvPr>
            <p:ph type="body"/>
          </p:nvPr>
        </p:nvSpPr>
        <p:spPr>
          <a:xfrm>
            <a:off x="1185840" y="4787640"/>
            <a:ext cx="5407200" cy="545940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irect comparison of the Bar‐ChIP and ChIP‐Seq methods Scatterplot illustrating the correlation between reads counts in the Bar‐ChIP and ChIP‐Seq datasets obtained for the same biological sample. 100 bp bins were used to compute these counts. Snapshot of coverage tracks of H3K4me3 around the </a:t>
            </a:r>
            <a:r>
              <a:rPr b="0" i="1" lang="en-GB" sz="1200" spc="-1" strike="noStrike">
                <a:solidFill>
                  <a:srgbClr val="000000"/>
                </a:solidFill>
                <a:latin typeface="Arial"/>
                <a:ea typeface="msgothic"/>
              </a:rPr>
              <a:t>GAL10</a:t>
            </a:r>
            <a:r>
              <a:rPr b="0" lang="en-GB" sz="1200" spc="-1" strike="noStrike">
                <a:solidFill>
                  <a:srgbClr val="000000"/>
                </a:solidFill>
                <a:latin typeface="Arial"/>
                <a:ea typeface="msgothic"/>
              </a:rPr>
              <a:t> locus obtained using ChIP‐Seq and Bar‐ChIP protocols. Tracks corresponding to the associated chromatin inputs are also displayed. For a highly expressed gene such as </a:t>
            </a:r>
            <a:r>
              <a:rPr b="0" i="1" lang="en-GB" sz="1200" spc="-1" strike="noStrike">
                <a:solidFill>
                  <a:srgbClr val="000000"/>
                </a:solidFill>
                <a:latin typeface="Arial"/>
                <a:ea typeface="msgothic"/>
              </a:rPr>
              <a:t>CHS3</a:t>
            </a:r>
            <a:r>
              <a:rPr b="0" lang="en-GB" sz="1200" spc="-1" strike="noStrike">
                <a:solidFill>
                  <a:srgbClr val="000000"/>
                </a:solidFill>
                <a:latin typeface="Arial"/>
                <a:ea typeface="msgothic"/>
              </a:rPr>
              <a:t> (black box (i)), H3K4me3 signal is much stronger at the 5′ end of the gene as compared to the input signal, which spreads along the entire gene body. On the other hand, while input signals display a rather homogeneous nucleosome spread on the </a:t>
            </a:r>
            <a:r>
              <a:rPr b="0" i="1" lang="en-GB" sz="1200" spc="-1" strike="noStrike">
                <a:solidFill>
                  <a:srgbClr val="000000"/>
                </a:solidFill>
                <a:latin typeface="Arial"/>
                <a:ea typeface="msgothic"/>
              </a:rPr>
              <a:t>GAL1</a:t>
            </a:r>
            <a:r>
              <a:rPr b="0" lang="en-GB" sz="1200" spc="-1" strike="noStrike">
                <a:solidFill>
                  <a:srgbClr val="000000"/>
                </a:solidFill>
                <a:latin typeface="Arial"/>
                <a:ea typeface="msgothic"/>
              </a:rPr>
              <a:t> and </a:t>
            </a:r>
            <a:r>
              <a:rPr b="0" i="1" lang="en-GB" sz="1200" spc="-1" strike="noStrike">
                <a:solidFill>
                  <a:srgbClr val="000000"/>
                </a:solidFill>
                <a:latin typeface="Arial"/>
                <a:ea typeface="msgothic"/>
              </a:rPr>
              <a:t>GAL10</a:t>
            </a:r>
            <a:r>
              <a:rPr b="0" lang="en-GB" sz="1200" spc="-1" strike="noStrike">
                <a:solidFill>
                  <a:srgbClr val="000000"/>
                </a:solidFill>
                <a:latin typeface="Arial"/>
                <a:ea typeface="msgothic"/>
              </a:rPr>
              <a:t> genes, H3K4me3 immuno‐precipitation clearly shows an enrichment of the mark to the 3′ end of the gene (black box (ii)). This corresponds to the presence of actively transcribed antisense non‐coding RNAs over the </a:t>
            </a:r>
            <a:r>
              <a:rPr b="0" i="1" lang="en-GB" sz="1200" spc="-1" strike="noStrike">
                <a:solidFill>
                  <a:srgbClr val="000000"/>
                </a:solidFill>
                <a:latin typeface="Arial"/>
                <a:ea typeface="msgothic"/>
              </a:rPr>
              <a:t>GAL10</a:t>
            </a:r>
            <a:r>
              <a:rPr b="0" lang="en-GB" sz="1200" spc="-1" strike="noStrike">
                <a:solidFill>
                  <a:srgbClr val="000000"/>
                </a:solidFill>
                <a:latin typeface="Arial"/>
                <a:ea typeface="msgothic"/>
              </a:rPr>
              <a:t> and </a:t>
            </a:r>
            <a:r>
              <a:rPr b="0" i="1" lang="en-GB" sz="1200" spc="-1" strike="noStrike">
                <a:solidFill>
                  <a:srgbClr val="000000"/>
                </a:solidFill>
                <a:latin typeface="Arial"/>
                <a:ea typeface="msgothic"/>
              </a:rPr>
              <a:t>GAL1</a:t>
            </a:r>
            <a:r>
              <a:rPr b="0" lang="en-GB" sz="1200" spc="-1" strike="noStrike">
                <a:solidFill>
                  <a:srgbClr val="000000"/>
                </a:solidFill>
                <a:latin typeface="Arial"/>
                <a:ea typeface="msgothic"/>
              </a:rPr>
              <a:t> genes that are responsible for the inhibition of GAL expression in dextrose‐rich medium. Bedgraph format displaying the number of counts per base pair. TSS plot representing nucleosome occupancy around the TSS of annotated genes as observed in the chromatin input of both ChIP‐Seq and Bar‐ChIP methods. Occupancy levels are plotted as a function of the distance to the TSS. Midpoint of a nucleosome was approximated as being the center of the genomic locus intercepted by a read pair. Nucleosome counts were determined at each position around annotated TSS and estimated across all genes. Resulting counts were divided by the total number of observed nucleosomes to provide the genome‐wide distribution of nucleosomes and occupancy at each position around the TSS. TSS plot representing H3K4me3 occupancy (normalized by chromatin input) around the TSS of annotated genes as observed in the ChIP‐Seq and Bar‐ChIP datasets. Evaluation of H3K4me3 counts with statistically significant difference between ChIP‐Seq and Bar‐ChIP. The mean normalized counts across all biological replicates are plotted as a function of the distance to the annotated TSS. Differential counts with statistical significance are indicated in red. Significant differences were called with the DESeq2 package after computing local FDR values based on the DESeq2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values. Only the positions with a log2 fold change greater than 0.05 and a local FDR smaller than 0.2 were considered significan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Highly multiplexed ChIP experiment based on the Bar‐ChIP protocol Schematic representation of the experimental design. Cultures corresponding to distinct yeast strains were harvested, crosslinked and their MNase‐treated chromatin was barcoded to enable sample tracking. Aliquots from each of the barcoded chromatin samples were pooled together prior to immuno‐precipitation against the histone modifications of interest. DNA recovered from each IP was amplified and sequenced using paired‐end technology. Finally, barcode sequences were used to demultiplex sequencing datasets and attribute each read to the proper biological sample. Normalized proportion of reads attributed to each strain. One sequencing lane corresponded to multiplexed samples submitted to one IP assay. For each sequencing lane, read counts attributed to each biological sample were first divided by the total number of reads recovered from the lane (Supplementary Fig S6). For each biological sample, the resulting ratio was normalized using the proportion of reads in the chromatin input lane that was attributed to that biological sample to correct for biases in the initial pooling of fragmented chromatin samples. Note that each </a:t>
            </a:r>
            <a:r>
              <a:rPr b="0" i="1" lang="en-GB" sz="1200" spc="-1" strike="noStrike">
                <a:solidFill>
                  <a:srgbClr val="000000"/>
                </a:solidFill>
                <a:latin typeface="Arial"/>
                <a:ea typeface="msgothic"/>
              </a:rPr>
              <a:t>set1∆</a:t>
            </a:r>
            <a:r>
              <a:rPr b="0" lang="en-GB" sz="1200" spc="-1" strike="noStrike">
                <a:solidFill>
                  <a:srgbClr val="000000"/>
                </a:solidFill>
                <a:latin typeface="Arial"/>
                <a:ea typeface="msgothic"/>
              </a:rPr>
              <a:t> library represents less than 0.17% of the total number of reads recovered for the IPs against H3K4 methylation while the </a:t>
            </a:r>
            <a:r>
              <a:rPr b="0" i="1" lang="en-GB" sz="1200" spc="-1" strike="noStrike">
                <a:solidFill>
                  <a:srgbClr val="000000"/>
                </a:solidFill>
                <a:latin typeface="Arial"/>
                <a:ea typeface="msgothic"/>
              </a:rPr>
              <a:t>set2∆</a:t>
            </a:r>
            <a:r>
              <a:rPr b="0" lang="en-GB" sz="1200" spc="-1" strike="noStrike">
                <a:solidFill>
                  <a:srgbClr val="000000"/>
                </a:solidFill>
                <a:latin typeface="Arial"/>
                <a:ea typeface="msgothic"/>
              </a:rPr>
              <a:t> libraries represent not more than 0.8% of the total reads recovered for the IP against H3K36me3. Absolute numbers for recovered sequencing reads are indicated in Supplementary Fig S7.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SS plots depicting the distribution of the histone post‐translational modifications profiled in the multiplexing experiment ANucleosome occupancy around annotated TSS for the wild‐type and mutant yeast strains profiled in the study. BOccupancy of the various marks profiled in the experiment in the wild‐type strain BY4741. C–EH3K14ac (C), H3K4me3 (D) and H3K4me2 (E) occupancies around the annotated TSS in the mutants profiled in the study. Data information: Histone mark occupancies were normalized using the counts corresponding to chromatin input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SS plots confirming the patterns of histone marks previously observed in the </a:t>
            </a:r>
            <a:r>
              <a:rPr b="0" i="1" lang="en-GB" sz="1200" spc="-1" strike="noStrike">
                <a:solidFill>
                  <a:srgbClr val="000000"/>
                </a:solidFill>
                <a:latin typeface="Arial"/>
                <a:ea typeface="msgothic"/>
              </a:rPr>
              <a:t>set2</a:t>
            </a:r>
            <a:r>
              <a:rPr b="0" lang="en-GB" sz="1200" spc="-1" strike="noStrike">
                <a:solidFill>
                  <a:srgbClr val="000000"/>
                </a:solidFill>
                <a:latin typeface="Arial"/>
                <a:ea typeface="msgothic"/>
              </a:rPr>
              <a:t>Δ mutant, using a classical high‐resolution ChIP‐Seq protocol A–CH3K14ac (A), H3K4me3 (B) and H3K4me2 (C) occupancies in the wild‐type strain and in the </a:t>
            </a:r>
            <a:r>
              <a:rPr b="0" i="1" lang="en-GB" sz="1200" spc="-1" strike="noStrike">
                <a:solidFill>
                  <a:srgbClr val="000000"/>
                </a:solidFill>
                <a:latin typeface="Arial"/>
                <a:ea typeface="msgothic"/>
              </a:rPr>
              <a:t>set2</a:t>
            </a:r>
            <a:r>
              <a:rPr b="0" lang="en-GB" sz="1200" spc="-1" strike="noStrike">
                <a:solidFill>
                  <a:srgbClr val="000000"/>
                </a:solidFill>
                <a:latin typeface="Arial"/>
                <a:ea typeface="msgothic"/>
              </a:rPr>
              <a:t>Δ mutant. Occupancies were normalized using counts from the chromatin input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istribution of H3K14ac and H3K4me3 for Set2‐dependent and ‐independent genes in wild‐type and </a:t>
            </a:r>
            <a:r>
              <a:rPr b="0" i="1" lang="en-GB" sz="1200" spc="-1" strike="noStrike">
                <a:solidFill>
                  <a:srgbClr val="000000"/>
                </a:solidFill>
                <a:latin typeface="Arial"/>
                <a:ea typeface="msgothic"/>
              </a:rPr>
              <a:t>set2</a:t>
            </a:r>
            <a:r>
              <a:rPr b="0" lang="en-GB" sz="1200" spc="-1" strike="noStrike">
                <a:solidFill>
                  <a:srgbClr val="000000"/>
                </a:solidFill>
                <a:latin typeface="Arial"/>
                <a:ea typeface="msgothic"/>
              </a:rPr>
              <a:t>Δ strains TSS plots representing the distribution of H3K14ac and H3K4me3 for genes grouped as either Set2‐dependent or Set2‐independent in the wild‐type strain and </a:t>
            </a:r>
            <a:r>
              <a:rPr b="0" i="1" lang="en-GB" sz="1200" spc="-1" strike="noStrike">
                <a:solidFill>
                  <a:srgbClr val="000000"/>
                </a:solidFill>
                <a:latin typeface="Arial"/>
                <a:ea typeface="msgothic"/>
              </a:rPr>
              <a:t>set2</a:t>
            </a:r>
            <a:r>
              <a:rPr b="0" lang="en-GB" sz="1200" spc="-1" strike="noStrike">
                <a:solidFill>
                  <a:srgbClr val="000000"/>
                </a:solidFill>
                <a:latin typeface="Arial"/>
                <a:ea typeface="msgothic"/>
              </a:rPr>
              <a:t>Δ mutant. H3K14ac occupancies around the annotated TSS in two groups of genes in the BY4741 and </a:t>
            </a:r>
            <a:r>
              <a:rPr b="0" i="1" lang="en-GB" sz="1200" spc="-1" strike="noStrike">
                <a:solidFill>
                  <a:srgbClr val="000000"/>
                </a:solidFill>
                <a:latin typeface="Arial"/>
                <a:ea typeface="msgothic"/>
              </a:rPr>
              <a:t>set2</a:t>
            </a:r>
            <a:r>
              <a:rPr b="0" lang="en-GB" sz="1200" spc="-1" strike="noStrike">
                <a:solidFill>
                  <a:srgbClr val="000000"/>
                </a:solidFill>
                <a:latin typeface="Arial"/>
                <a:ea typeface="msgothic"/>
              </a:rPr>
              <a:t>Δ strains. Set2‐dependent genes were identified using unambiguous genome‐wide mapping of internal transcription start sites. H3K4me3 occupancies around the annotated TSS in two groups of genes in the BY4741 and </a:t>
            </a:r>
            <a:r>
              <a:rPr b="0" i="1" lang="en-GB" sz="1200" spc="-1" strike="noStrike">
                <a:solidFill>
                  <a:srgbClr val="000000"/>
                </a:solidFill>
                <a:latin typeface="Arial"/>
                <a:ea typeface="msgothic"/>
              </a:rPr>
              <a:t>set2</a:t>
            </a:r>
            <a:r>
              <a:rPr b="0" lang="en-GB" sz="1200" spc="-1" strike="noStrike">
                <a:solidFill>
                  <a:srgbClr val="000000"/>
                </a:solidFill>
                <a:latin typeface="Arial"/>
                <a:ea typeface="msgothic"/>
              </a:rPr>
              <a:t>Δ strains. Data information: Set2‐dependent genes are either in black (for BY4741) or red (for </a:t>
            </a:r>
            <a:r>
              <a:rPr b="0" i="1" lang="en-GB" sz="1200" spc="-1" strike="noStrike">
                <a:solidFill>
                  <a:srgbClr val="000000"/>
                </a:solidFill>
                <a:latin typeface="Arial"/>
                <a:ea typeface="msgothic"/>
              </a:rPr>
              <a:t>set2</a:t>
            </a:r>
            <a:r>
              <a:rPr b="0" lang="en-GB" sz="1200" spc="-1" strike="noStrike">
                <a:solidFill>
                  <a:srgbClr val="000000"/>
                </a:solidFill>
                <a:latin typeface="Arial"/>
                <a:ea typeface="msgothic"/>
              </a:rPr>
              <a:t>Δ), while Set2‐independent genes are represented as a blue line (for BY4741) or yellow line (for </a:t>
            </a:r>
            <a:r>
              <a:rPr b="0" i="1" lang="en-GB" sz="1200" spc="-1" strike="noStrike">
                <a:solidFill>
                  <a:srgbClr val="000000"/>
                </a:solidFill>
                <a:latin typeface="Arial"/>
                <a:ea typeface="msgothic"/>
              </a:rPr>
              <a:t>set2</a:t>
            </a:r>
            <a:r>
              <a:rPr b="0" lang="en-GB" sz="1200" spc="-1" strike="noStrike">
                <a:solidFill>
                  <a:srgbClr val="000000"/>
                </a:solidFill>
                <a:latin typeface="Arial"/>
                <a:ea typeface="msgothic"/>
              </a:rPr>
              <a:t>Δ).</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A high‐throughput ChIP‐Seq for large‐scale chromatin studie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Christophe D Chabbert, Sophie H Adjalley, Bernd Klaus, Emilie S Fritsch, Ishaan Gupta, Vicent Pelechano, and Lars M Steinmetz</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Mol Syst Biol</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1(1):777</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anuary 12, 2015</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8305920" y="6721560"/>
            <a:ext cx="1544400" cy="704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omparative representation of the ChIP‐Seq and Bar‐ChIP workflows Yeast cultures are crosslinked using formaldehyde.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8305920" y="6721560"/>
            <a:ext cx="1544400" cy="704880"/>
          </a:xfrm>
          <a:prstGeom prst="rect">
            <a:avLst/>
          </a:prstGeom>
          <a:ln w="0">
            <a:noFill/>
          </a:ln>
        </p:spPr>
      </p:pic>
      <p:pic>
        <p:nvPicPr>
          <p:cNvPr id="48" name="" descr=""/>
          <p:cNvPicPr/>
          <p:nvPr/>
        </p:nvPicPr>
        <p:blipFill>
          <a:blip r:embed="rId2"/>
          <a:stretch/>
        </p:blipFill>
        <p:spPr>
          <a:xfrm>
            <a:off x="2684520" y="1079640"/>
            <a:ext cx="4716360" cy="5394240"/>
          </a:xfrm>
          <a:prstGeom prst="rect">
            <a:avLst/>
          </a:prstGeom>
          <a:ln w="0">
            <a:noFill/>
          </a:ln>
        </p:spPr>
      </p:pic>
      <p:sp>
        <p:nvSpPr>
          <p:cNvPr id="49" name=""/>
          <p:cNvSpPr/>
          <p:nvPr/>
        </p:nvSpPr>
        <p:spPr>
          <a:xfrm>
            <a:off x="26845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hristophe D Chabbert et al. Mol Syst Biol 2015;11:777</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irect comparison of the Bar‐ChIP and ChIP‐Seq methods Scatterplot illustrating the correlation between reads counts in the Bar‐ChIP and ChIP‐Seq datasets obtained for the same biological sample. 100 bp bins were used to compute these count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8305920" y="6721560"/>
            <a:ext cx="1544400" cy="704880"/>
          </a:xfrm>
          <a:prstGeom prst="rect">
            <a:avLst/>
          </a:prstGeom>
          <a:ln w="0">
            <a:noFill/>
          </a:ln>
        </p:spPr>
      </p:pic>
      <p:pic>
        <p:nvPicPr>
          <p:cNvPr id="53" name="" descr=""/>
          <p:cNvPicPr/>
          <p:nvPr/>
        </p:nvPicPr>
        <p:blipFill>
          <a:blip r:embed="rId2"/>
          <a:stretch/>
        </p:blipFill>
        <p:spPr>
          <a:xfrm>
            <a:off x="1260360" y="1079640"/>
            <a:ext cx="7562880" cy="5394240"/>
          </a:xfrm>
          <a:prstGeom prst="rect">
            <a:avLst/>
          </a:prstGeom>
          <a:ln w="0">
            <a:noFill/>
          </a:ln>
        </p:spPr>
      </p:pic>
      <p:sp>
        <p:nvSpPr>
          <p:cNvPr id="54" name=""/>
          <p:cNvSpPr/>
          <p:nvPr/>
        </p:nvSpPr>
        <p:spPr>
          <a:xfrm>
            <a:off x="12603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hristophe D Chabbert et al. Mol Syst Biol 2015;11:777</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Highly multiplexed ChIP experiment based on the Bar‐ChIP protocol Schematic representation of the experimental design.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8305920" y="6721560"/>
            <a:ext cx="1544400" cy="704880"/>
          </a:xfrm>
          <a:prstGeom prst="rect">
            <a:avLst/>
          </a:prstGeom>
          <a:ln w="0">
            <a:noFill/>
          </a:ln>
        </p:spPr>
      </p:pic>
      <p:pic>
        <p:nvPicPr>
          <p:cNvPr id="58" name="" descr=""/>
          <p:cNvPicPr/>
          <p:nvPr/>
        </p:nvPicPr>
        <p:blipFill>
          <a:blip r:embed="rId2"/>
          <a:stretch/>
        </p:blipFill>
        <p:spPr>
          <a:xfrm>
            <a:off x="739800" y="2106720"/>
            <a:ext cx="8604360" cy="3340080"/>
          </a:xfrm>
          <a:prstGeom prst="rect">
            <a:avLst/>
          </a:prstGeom>
          <a:ln w="0">
            <a:noFill/>
          </a:ln>
        </p:spPr>
      </p:pic>
      <p:sp>
        <p:nvSpPr>
          <p:cNvPr id="5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hristophe D Chabbert et al. Mol Syst Biol 2015;11:777</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SS plots depicting the distribution of the histone post‐translational modifications profiled in the multiplexing experiment ANucleosome occupancy around annotated TSS for the wild‐type and mutant yeast strains profiled in the study.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8305920" y="6721560"/>
            <a:ext cx="1544400" cy="704880"/>
          </a:xfrm>
          <a:prstGeom prst="rect">
            <a:avLst/>
          </a:prstGeom>
          <a:ln w="0">
            <a:noFill/>
          </a:ln>
        </p:spPr>
      </p:pic>
      <p:pic>
        <p:nvPicPr>
          <p:cNvPr id="63" name="" descr=""/>
          <p:cNvPicPr/>
          <p:nvPr/>
        </p:nvPicPr>
        <p:blipFill>
          <a:blip r:embed="rId2"/>
          <a:stretch/>
        </p:blipFill>
        <p:spPr>
          <a:xfrm>
            <a:off x="936720" y="1079640"/>
            <a:ext cx="8210520" cy="5394240"/>
          </a:xfrm>
          <a:prstGeom prst="rect">
            <a:avLst/>
          </a:prstGeom>
          <a:ln w="0">
            <a:noFill/>
          </a:ln>
        </p:spPr>
      </p:pic>
      <p:sp>
        <p:nvSpPr>
          <p:cNvPr id="64" name=""/>
          <p:cNvSpPr/>
          <p:nvPr/>
        </p:nvSpPr>
        <p:spPr>
          <a:xfrm>
            <a:off x="9367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hristophe D Chabbert et al. Mol Syst Biol 2015;11:777</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SS plots confirming the patterns of histone marks previously observed in the set2Δ mutant, using a classical high‐resolution ChIP‐Seq protocol A–CH3K14ac (A), H3K4me3 (B) and H3K4me2 (C) occupancies in the wild‐type strain and in the set2Δ mutant.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8305920" y="6721560"/>
            <a:ext cx="1544400" cy="704880"/>
          </a:xfrm>
          <a:prstGeom prst="rect">
            <a:avLst/>
          </a:prstGeom>
          <a:ln w="0">
            <a:noFill/>
          </a:ln>
        </p:spPr>
      </p:pic>
      <p:pic>
        <p:nvPicPr>
          <p:cNvPr id="68" name="" descr=""/>
          <p:cNvPicPr/>
          <p:nvPr/>
        </p:nvPicPr>
        <p:blipFill>
          <a:blip r:embed="rId2"/>
          <a:stretch/>
        </p:blipFill>
        <p:spPr>
          <a:xfrm>
            <a:off x="3551400" y="1079640"/>
            <a:ext cx="2984400" cy="5394240"/>
          </a:xfrm>
          <a:prstGeom prst="rect">
            <a:avLst/>
          </a:prstGeom>
          <a:ln w="0">
            <a:noFill/>
          </a:ln>
        </p:spPr>
      </p:pic>
      <p:sp>
        <p:nvSpPr>
          <p:cNvPr id="69" name=""/>
          <p:cNvSpPr/>
          <p:nvPr/>
        </p:nvSpPr>
        <p:spPr>
          <a:xfrm>
            <a:off x="355140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hristophe D Chabbert et al. Mol Syst Biol 2015;11:777</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90324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istribution of H3K14ac and H3K4me3 for Set2‐dependent and ‐independent genes in wild‐type and set2Δ strains TSS plots representing the distribution of H3K14ac and H3K4me3 for genes grouped as either Set2‐dependent or Set2‐independent in the wild‐type strain and set2Δ mutant.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8305920" y="6721560"/>
            <a:ext cx="1544400" cy="704880"/>
          </a:xfrm>
          <a:prstGeom prst="rect">
            <a:avLst/>
          </a:prstGeom>
          <a:ln w="0">
            <a:noFill/>
          </a:ln>
        </p:spPr>
      </p:pic>
      <p:pic>
        <p:nvPicPr>
          <p:cNvPr id="73" name="" descr=""/>
          <p:cNvPicPr/>
          <p:nvPr/>
        </p:nvPicPr>
        <p:blipFill>
          <a:blip r:embed="rId2"/>
          <a:stretch/>
        </p:blipFill>
        <p:spPr>
          <a:xfrm>
            <a:off x="1936800" y="1079640"/>
            <a:ext cx="6210360" cy="5394240"/>
          </a:xfrm>
          <a:prstGeom prst="rect">
            <a:avLst/>
          </a:prstGeom>
          <a:ln w="0">
            <a:noFill/>
          </a:ln>
        </p:spPr>
      </p:pic>
      <p:sp>
        <p:nvSpPr>
          <p:cNvPr id="74" name=""/>
          <p:cNvSpPr/>
          <p:nvPr/>
        </p:nvSpPr>
        <p:spPr>
          <a:xfrm>
            <a:off x="1936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hristophe D Chabbert et al. Mol Syst Biol 2015;11:777</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